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</p:sldIdLst>
  <p:sldSz cx="9144000" cy="6858000"/>
  <p:notesSz cx="6858000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180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936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F7958EC-E9E6-4A0A-8C8E-32715C0FA590}" type="datetime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ftr" idx="8"/>
          </p:nvPr>
        </p:nvSpPr>
        <p:spPr>
          <a:xfrm>
            <a:off x="-180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sldNum" idx="9"/>
          </p:nvPr>
        </p:nvSpPr>
        <p:spPr>
          <a:xfrm>
            <a:off x="3885840" y="930924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i="1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D17DD840-1CAF-4C2D-A8B3-79EFCB67F533}" type="slidenum">
              <a:rPr b="0" i="1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914400" y="464616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Img"/>
          </p:nvPr>
        </p:nvSpPr>
        <p:spPr>
          <a:xfrm>
            <a:off x="1149480" y="857160"/>
            <a:ext cx="4559040" cy="3416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6" name="PlaceHolder 1"/>
          <p:cNvSpPr>
            <a:spLocks noGrp="1"/>
          </p:cNvSpPr>
          <p:nvPr>
            <p:ph type="body"/>
          </p:nvPr>
        </p:nvSpPr>
        <p:spPr>
          <a:xfrm>
            <a:off x="912960" y="4646160"/>
            <a:ext cx="5030640" cy="411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vestment risk is offset by ‘price risk’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ation of bonds = maturity of   fixed (one off)  liability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“one off” liability payment in 10 years then “maturity” = “dur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2"/>
          <p:cNvSpPr>
            <a:spLocks noGrp="1"/>
          </p:cNvSpPr>
          <p:nvPr>
            <p:ph type="sldImg"/>
          </p:nvPr>
        </p:nvSpPr>
        <p:spPr>
          <a:xfrm>
            <a:off x="1149480" y="85572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body"/>
          </p:nvPr>
        </p:nvSpPr>
        <p:spPr>
          <a:xfrm>
            <a:off x="912960" y="4646160"/>
            <a:ext cx="5030640" cy="411804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investment risk is offset by ‘price risk’ i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ation of bonds = maturity of   fixed (one off)  liability pa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a “one off” liability payment in 10 years then “maturity” = “duration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 type="sldImg"/>
          </p:nvPr>
        </p:nvSpPr>
        <p:spPr>
          <a:xfrm>
            <a:off x="1149480" y="855720"/>
            <a:ext cx="4557600" cy="34178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78A5-C97E-4A1F-B6D8-0C6D2A4D6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ACDE5-AAF8-46F1-B5A4-53EFCB9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A3FA0-7A88-440C-8BDA-B570C6C81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932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4628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5236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932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4628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AAF6-D0D0-4801-81EC-017D7338C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8F53-AC2B-4B84-88AF-AB4315692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C5A4-BE82-4C4B-91C4-7C8C95A5D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91EF7-8FC0-444C-9C98-56CE1BD2E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D4381-9F3A-4804-9B1C-9BA515860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1268-F52A-46F5-B65E-3636DC9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92240" y="177480"/>
            <a:ext cx="805176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87B-D71B-4619-A806-19A6FC68A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5901-3A2E-4A36-9C15-932343D67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62D-2FC4-4ACD-A9C1-6525B24C3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81936-6D93-48C7-9CB6-251F7819B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14BB7-6B45-4EEC-AA12-709F6B0D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1D014-6728-4B64-A950-C6E801A37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7C7B5-5045-4381-8702-2766E5F65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932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46280" y="137124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5236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932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46280" y="4052880"/>
            <a:ext cx="28062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1A6E1-7E27-4168-A0CA-2705599C2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7BDC-5B28-4B72-883A-3A2319B36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D51C0-32EC-4D42-A00D-25469EC9D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FF8-D797-4D93-9AAE-F50FF9261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92240" y="177480"/>
            <a:ext cx="8051760" cy="365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C231-8CC9-4F87-A9DC-D8A89B1D3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438D-31F3-4E58-ACCC-101440965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8520" y="405288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5107-C8CE-491E-8A45-917E55E4D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5236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8520" y="1371240"/>
            <a:ext cx="425304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52360" y="4052880"/>
            <a:ext cx="8715600" cy="244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6D7E-E50E-428B-A392-318C0E1A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107A7F34-1A09-41F7-A116-7AE64B01F2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092240" y="17748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252360" y="1371240"/>
            <a:ext cx="8715600" cy="51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1" marL="743040" indent="-285840">
              <a:spcBef>
                <a:spcPts val="700"/>
              </a:spcBef>
              <a:buClr>
                <a:srgbClr val="dc0081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2" marL="1143000" indent="-228600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4" marL="1981080" indent="-228600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D480606-1FAA-47FD-B7EA-D94D18EA4F6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6EEFDDF0-6892-4CA7-A627-C8B7699988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711360" y="2311200"/>
            <a:ext cx="7721280" cy="1091880"/>
          </a:xfrm>
          <a:prstGeom prst="rect">
            <a:avLst/>
          </a:prstGeom>
          <a:solidFill>
            <a:srgbClr val="3333cc"/>
          </a:solidFill>
          <a:ln w="50760">
            <a:solidFill>
              <a:srgbClr val="ff0033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Click to edit the outline text format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con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2" marL="914400" algn="ctr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Third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3" marL="1333440" algn="ctr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our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4" marL="1752480" algn="ctr">
              <a:spcBef>
                <a:spcPts val="700"/>
              </a:spcBef>
              <a:buClr>
                <a:srgbClr val="00dfca"/>
              </a:buClr>
              <a:buSzPct val="65000"/>
              <a:buFont typeface="Monotype Sort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Fif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5" marL="17524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ix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lvl="6" marL="1752480">
              <a:spcBef>
                <a:spcPts val="700"/>
              </a:spcBef>
              <a:buClr>
                <a:srgbClr val="000000"/>
              </a:buClr>
              <a:buSzPct val="6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Seventh Outline Level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3152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Lecture   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Money and Bond Market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914400" y="4572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11/9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CCA9-C55C-41D2-8812-66958A752F74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365AE5-DE63-4974-94CD-5C7D09FF541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324560" cy="855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ELD (“ADD-ON”) INSTRUMENTS: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: Certificate of deposit (CD)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4484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(CD or Inter-bank Deposit)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maturity of m-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quoted yield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= y =12.5% p.a.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£100 deposite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CD Pays       £100 [ 1 +  (m / 365 ) ( y/100) ]</a:t>
            </a:r>
            <a:r>
              <a:rPr b="1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after m-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13" name=""/>
          <p:cNvSpPr/>
          <p:nvPr/>
        </p:nvSpPr>
        <p:spPr>
          <a:xfrm>
            <a:off x="1227240" y="5567400"/>
            <a:ext cx="67532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630440" y="3936960"/>
            <a:ext cx="0" cy="1630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038240" y="5587920"/>
            <a:ext cx="11714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2" marL="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785000" y="5610240"/>
            <a:ext cx="59220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80920" y="3424320"/>
            <a:ext cx="141768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410080" y="3124080"/>
            <a:ext cx="2743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100[1+(m /365) (y/100) 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5943600"/>
            <a:ext cx="2666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Time in ye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4120" y="3276720"/>
            <a:ext cx="0" cy="2361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782960" y="5608800"/>
            <a:ext cx="17701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/36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1628640" y="3200040"/>
            <a:ext cx="3705480" cy="757080"/>
          </a:xfrm>
          <a:prstGeom prst="line">
            <a:avLst/>
          </a:prstGeom>
          <a:ln w="50760">
            <a:solidFill>
              <a:srgbClr val="ffffff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-228600" y="3240"/>
            <a:ext cx="838080" cy="6854760"/>
            <a:chOff x="-228600" y="3240"/>
            <a:chExt cx="838080" cy="6854760"/>
          </a:xfrm>
        </p:grpSpPr>
        <p:sp>
          <p:nvSpPr>
            <p:cNvPr id="424" name=""/>
            <p:cNvSpPr/>
            <p:nvPr/>
          </p:nvSpPr>
          <p:spPr>
            <a:xfrm>
              <a:off x="-22860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25" name=""/>
            <p:cNvGrpSpPr/>
            <p:nvPr/>
          </p:nvGrpSpPr>
          <p:grpSpPr>
            <a:xfrm>
              <a:off x="-169560" y="166680"/>
              <a:ext cx="117360" cy="6550200"/>
              <a:chOff x="-169560" y="166680"/>
              <a:chExt cx="117360" cy="6550200"/>
            </a:xfrm>
          </p:grpSpPr>
          <p:sp>
            <p:nvSpPr>
              <p:cNvPr id="426" name=""/>
              <p:cNvSpPr/>
              <p:nvPr/>
            </p:nvSpPr>
            <p:spPr>
              <a:xfrm>
                <a:off x="-16956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-16956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-16956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-16956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-16956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-16956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-16956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-16956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-16956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-16956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-16956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-16956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-16956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-16956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-16956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-16956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-16956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-16956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-16956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-16956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-16956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-16956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-16956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-16956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-16956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-16956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-16956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-16956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-16956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55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422E-43EB-4BBC-AE70-19A076524A7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4D1A2E-5356-4DBE-9C4C-64C281227877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8077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SCOUNT INSTRUMENTS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Example:  1-YR T-BILL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1-yr T-Bill with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Par (face or maturity) value FV = 10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rading at a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quoted discount rate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d=10%, has a current market price of P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459" name=""/>
          <p:cNvSpPr/>
          <p:nvPr/>
        </p:nvSpPr>
        <p:spPr>
          <a:xfrm>
            <a:off x="1600200" y="5562720"/>
            <a:ext cx="6380280" cy="468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1600200" y="4266720"/>
            <a:ext cx="0" cy="1295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867280" y="4343400"/>
            <a:ext cx="17640" cy="1224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1600200" y="3513240"/>
            <a:ext cx="4284720" cy="753840"/>
          </a:xfrm>
          <a:prstGeom prst="line">
            <a:avLst/>
          </a:prstGeom>
          <a:ln w="12600">
            <a:solidFill>
              <a:srgbClr val="ff0033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19120" y="5587920"/>
            <a:ext cx="549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651640" y="5610240"/>
            <a:ext cx="5918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604880" y="6019920"/>
            <a:ext cx="449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  =  FV - D = 100 - 10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Book Antiqua"/>
              </a:rPr>
              <a:t>=£9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8280" y="3078000"/>
            <a:ext cx="3195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FV= 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42040" y="5702400"/>
            <a:ext cx="169704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Rounded MT Bold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1600200" y="4343400"/>
            <a:ext cx="43434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587560" y="3733920"/>
            <a:ext cx="36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 = FV (d / 100) =£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172200" y="4302000"/>
            <a:ext cx="2438280" cy="7934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Book Antiqua"/>
              </a:rPr>
              <a:t>D = (sterling or dollar)discou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5867280" y="3581280"/>
            <a:ext cx="0" cy="76212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47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7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47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04" name=""/>
          <p:cNvSpPr/>
          <p:nvPr/>
        </p:nvSpPr>
        <p:spPr>
          <a:xfrm>
            <a:off x="1219320" y="685800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1219320" y="4114800"/>
            <a:ext cx="380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P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5866920" y="4038120"/>
            <a:ext cx="68580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D53-6D38-4A95-A821-B8F74084CCF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4005A3-2D7B-4491-A423-B21122DD5733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67052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iscount Instrument: Price of  US T-Bill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43000" y="914040"/>
            <a:ext cx="7824960" cy="56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FV = $1000, 90 days to maturity, 1-year = 360 day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quoted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iscount rate  d = 8% p.a., FV=$100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What is the market price and the yield ?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ollar discount D 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D =   $1000 (8/100) (90/360)   =  $2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=   FV      [ (d / 100) ( m / a) ]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 algn="just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Invoice price, P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 =  FV-D  =  $980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-33264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Yiel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y = [(1000 - 980) /980 ] x 360/90 x 100% = 8.163%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1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1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4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8C2F-6D81-4061-A251-723CB153EA4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A10A7C-1D5F-47E7-A10F-D957CF3A96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Yield” on a  Discount Instrument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990360" y="1294920"/>
            <a:ext cx="784836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Quo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discount rat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is 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not a correct measur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 of the “return” (even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if held to maturity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Correct measure is the “yield (to maturity)” and  is defined with respect to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urchase price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. .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Note if you sell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prior to maturity you do not earn the yield to maturity-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nd the (holding period) return is risky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Quoted yield is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     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Rounded MT Bold"/>
              </a:rPr>
              <a:t>y =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7" name=""/>
              <p:cNvSpPr txBox="1"/>
              <p:nvPr/>
            </p:nvSpPr>
            <p:spPr>
              <a:xfrm>
                <a:off x="2666880" y="5181480"/>
                <a:ext cx="3657600" cy="99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FV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year</m:t>
                        </m:r>
                      </m:num>
                      <m:den>
                        <m:r>
                          <m:t xml:space="preserve">m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4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4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5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80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1B8B-15A0-4319-8316-2790A978D89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482DF-EE27-4346-ADD0-3FD68C39D71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838080" y="75960"/>
            <a:ext cx="729000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Summary : Money Markets</a:t>
            </a:r>
            <a:r>
              <a:rPr b="1" lang="en-US" sz="36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914040" y="15235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Short term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borrowing and lending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- used by Banks, FX-traders, Corporate Treasurer’s and    C.Bank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Quote conventions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differ between markets and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  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-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LIBOR</a:t>
            </a: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  is a key reference rat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 Rounded MT Bold"/>
              </a:rPr>
              <a:t>T-Bill, CD’s and Commercial Paper (in US) are highly liquid markets up to  3-6  months</a:t>
            </a:r>
            <a:r>
              <a:rPr b="0" lang="en-US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5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5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6" name=""/>
          <p:cNvSpPr/>
          <p:nvPr/>
        </p:nvSpPr>
        <p:spPr>
          <a:xfrm>
            <a:off x="1143000" y="64771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032-D95B-45F1-9B81-FF8475B7C1B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E4CA7-EB5A-4EC4-AA2F-69E687F5ADF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"/>
          <p:cNvSpPr/>
          <p:nvPr/>
        </p:nvSpPr>
        <p:spPr>
          <a:xfrm>
            <a:off x="939960" y="1447920"/>
            <a:ext cx="8051760" cy="396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BOND MARKETS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914400" y="4572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4A94-F4A7-4A6D-83BE-D38594DB43D6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D37335-7085-4627-AAC6-516884C1D26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51824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: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837720" y="762120"/>
            <a:ext cx="3886200" cy="576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EASURIES (T-Bonds/notes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ero Coupon Bond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Spot rate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Coupon Bonds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Yield to Maturity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- pricing using spot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ields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ain Vanilla/Straight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ign = Yankee/Samurai/Bulldog/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tadors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vertible and Callable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urobond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800600" y="762120"/>
            <a:ext cx="3990960" cy="57672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Bonds and Durati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 Rounded MT Bold"/>
              </a:rPr>
              <a:t>SELF STUDY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Holding Period Retur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rganisation of the UK Gilts Marke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Accrued Interes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5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6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5720-4A29-4208-939A-2C63AF20A238}" type="slidenum">
              <a:t>16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64FC3E-4433-4692-9594-C10291DB33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518240" cy="6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ING:  BOND MARKET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6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6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6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38080" y="1752480"/>
            <a:ext cx="8305920" cy="403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vestments:Spot and Derivative Markets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Cuthbertson and D.Nitzsche</a:t>
            </a:r>
            <a:br>
              <a:rPr sz="2400"/>
            </a:br>
            <a:br>
              <a:rPr sz="2400"/>
            </a:b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7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7.1: Prices, Yields and Return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7.3: Corporate Bonds</a:t>
            </a:r>
            <a:br>
              <a:rPr sz="2400"/>
            </a:br>
            <a:br>
              <a:rPr sz="2400"/>
            </a:b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hapter 9</a:t>
            </a:r>
            <a:br>
              <a:rPr sz="2400"/>
            </a:b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ection 9.1: Duration and Convex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3723-CE9D-4090-B606-9684C546F93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235482-0B21-42A5-A27C-62F052D1DD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/>
          </p:nvPr>
        </p:nvSpPr>
        <p:spPr>
          <a:xfrm>
            <a:off x="1143000" y="1371240"/>
            <a:ext cx="739152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ero Coupon Bonds: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ot rate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upon Bonds: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Yield to Maturity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cing using spot yield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72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2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3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55F6F-4525-4D03-BEA0-26000825523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66E43E-ACC2-4DA5-B4DF-AF5A140B87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"/>
          <p:cNvSpPr/>
          <p:nvPr/>
        </p:nvSpPr>
        <p:spPr>
          <a:xfrm>
            <a:off x="1071720" y="3828960"/>
            <a:ext cx="635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1143000" y="2300040"/>
            <a:ext cx="0" cy="152388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6705720" y="2361960"/>
            <a:ext cx="0" cy="146196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909720" y="178128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843120" y="393372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553080" y="685800"/>
            <a:ext cx="1703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M=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6553080" y="3929040"/>
            <a:ext cx="66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1066680" y="4419720"/>
            <a:ext cx="7315200" cy="19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‘zero’ offers a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singl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or ‘spot’) payment of $M in the fu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 = time to maturity of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 =100 = redemption /par/ maturity  value of  the  b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is the fair price P for this ‘zero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 flipH="1">
            <a:off x="1142640" y="914400"/>
            <a:ext cx="5575320" cy="138600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V="1">
            <a:off x="1143000" y="2300040"/>
            <a:ext cx="5562720" cy="75960"/>
          </a:xfrm>
          <a:prstGeom prst="line">
            <a:avLst/>
          </a:prstGeom>
          <a:ln w="1260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6630480" y="1371600"/>
            <a:ext cx="1369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is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838080" y="15228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Zero Coupon / Pure Discount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6705720" y="914400"/>
            <a:ext cx="0" cy="14479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77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7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77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7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334280" y="3809880"/>
            <a:ext cx="12762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3FC8-798F-4AED-BF2B-542964C019FC}" type="slidenum">
              <a:t>1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5AA8A0-4D3B-410B-8C01-AA5DAC1E60B2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320"/>
            <a:ext cx="8001000" cy="58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PICS</a:t>
            </a:r>
            <a:r>
              <a:rPr b="1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90360" y="1447920"/>
            <a:ext cx="73674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HO PLAYS IN THE MONEY MARK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YIELD OR ‘ADD ON’ INSTRUMENT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LOANS , CD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DISCOUNT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(T-BILLS, COMMERCIAL BILL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9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CFEF-0DB7-4008-9BC8-FD0C34715E31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5837ED-51E2-4A2C-8C50-86937E0C96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95E7B428-2BF8-42F8-A77B-0D4FEBF0B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837720" y="255600"/>
            <a:ext cx="6248520" cy="442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ZERO’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219320" y="1166400"/>
            <a:ext cx="7215120" cy="543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pose the current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quoted 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market yield on ‘n-year money’ is r =10% (at a compound rate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 is known as a ‘spot rate’ of interes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n the </a:t>
            </a:r>
            <a:r>
              <a:rPr b="0" i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‘fair price’</a:t>
            </a: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 for the zero is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        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  = M / (1+r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n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                  P = 100 / (1.1)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US" sz="2400" spc="-1" strike="noStrike" u="sng">
                <a:solidFill>
                  <a:srgbClr val="00ff00"/>
                </a:solidFill>
                <a:uFillTx/>
                <a:latin typeface="Arial"/>
              </a:rPr>
              <a:t>82.64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0066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Note that if you know P =82.64 then you can (if you wish) calculate r = 10%  using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1+r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 = ( M / P ) </a:t>
            </a:r>
            <a:r>
              <a:rPr b="0" lang="en-US" sz="2400" spc="-1" strike="noStrike" baseline="30000">
                <a:solidFill>
                  <a:srgbClr val="ffffff"/>
                </a:solidFill>
                <a:latin typeface="Arial"/>
              </a:rPr>
              <a:t>1/n</a:t>
            </a:r>
            <a:r>
              <a:rPr b="0" lang="en-US" sz="24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81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1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1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4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"/>
          <p:cNvSpPr/>
          <p:nvPr/>
        </p:nvSpPr>
        <p:spPr>
          <a:xfrm>
            <a:off x="1071720" y="4500720"/>
            <a:ext cx="63579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1066680" y="2209680"/>
            <a:ext cx="0" cy="22860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V="1">
            <a:off x="6705720" y="1599840"/>
            <a:ext cx="0" cy="289548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V="1">
            <a:off x="2046240" y="385740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V="1">
            <a:off x="2938320" y="389088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3757680" y="387648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V="1">
            <a:off x="4697280" y="386244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V="1">
            <a:off x="5943600" y="3848040"/>
            <a:ext cx="0" cy="61920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833400" y="182880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843120" y="4605480"/>
            <a:ext cx="523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6450120" y="1190520"/>
            <a:ext cx="1003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2557440" y="4572000"/>
            <a:ext cx="719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553080" y="4600440"/>
            <a:ext cx="666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3513240" y="4586400"/>
            <a:ext cx="52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05040" y="4572000"/>
            <a:ext cx="622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V="1">
            <a:off x="6595920" y="3857400"/>
            <a:ext cx="0" cy="618840"/>
          </a:xfrm>
          <a:prstGeom prst="line">
            <a:avLst/>
          </a:prstGeom>
          <a:ln w="1260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703520" y="3429000"/>
            <a:ext cx="549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lvl="1" marL="1904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652840" y="3414600"/>
            <a:ext cx="547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494160" y="3448080"/>
            <a:ext cx="549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 flipH="1">
            <a:off x="6411240" y="3433680"/>
            <a:ext cx="5461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4762440" y="3691080"/>
            <a:ext cx="1071720" cy="0"/>
          </a:xfrm>
          <a:prstGeom prst="line">
            <a:avLst/>
          </a:prstGeom>
          <a:ln w="1260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066680" y="4979880"/>
            <a:ext cx="7772400" cy="15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 = time to maturity of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= redemption/principal/par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 = market price                C = $ coupon on bo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838080" y="9036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lain Vanilla: Coupon Paying B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87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87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4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BD456-389A-4DE5-9D13-705732976E55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F95B67-5A65-4F9C-8B31-4C7629167849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/>
          </p:nvPr>
        </p:nvSpPr>
        <p:spPr>
          <a:xfrm>
            <a:off x="990360" y="837720"/>
            <a:ext cx="7607160" cy="586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P =</a:t>
            </a:r>
            <a:br>
              <a:rPr sz="2000"/>
            </a:b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e require a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single(%)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igure to ‘represent’ the  “return”, 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if bond is held to maturity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  is the IRR of the bond and is known as YTM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n P, C,M and n then the FT calculates the YTM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M=£100 in UK   and M=$1000 in US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: P and y are inversely related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TM is ‘made up’ of  coupons+interest on coupons + capital gain to maturity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7" name=""/>
              <p:cNvSpPr txBox="1"/>
              <p:nvPr/>
            </p:nvSpPr>
            <p:spPr>
              <a:xfrm>
                <a:off x="2101680" y="744480"/>
                <a:ext cx="635652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8" name=""/>
          <p:cNvSpPr/>
          <p:nvPr/>
        </p:nvSpPr>
        <p:spPr>
          <a:xfrm>
            <a:off x="838080" y="152280"/>
            <a:ext cx="800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you know the price, what is the YTM on a Bond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1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1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41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2B96-76F9-4845-8B5E-2F69C72CA36B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7FC35-C5D1-4DD6-A163-454148929750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/>
          </p:nvPr>
        </p:nvSpPr>
        <p:spPr>
          <a:xfrm>
            <a:off x="762120" y="1079640"/>
            <a:ext cx="8229600" cy="5549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Rounded MT Bold"/>
              </a:rPr>
              <a:t>P =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.T.    y = </a:t>
            </a:r>
            <a:r>
              <a:rPr b="0" lang="en-GB" sz="28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GB" sz="2800" spc="-1" strike="noStrike" u="sng">
                <a:solidFill>
                  <a:srgbClr val="fafd00"/>
                </a:solidFill>
                <a:uFillTx/>
                <a:latin typeface="Arial"/>
              </a:rPr>
              <a:t>Gross Redemption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yield”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 F.T.    “Flat”, 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“</a:t>
            </a:r>
            <a:r>
              <a:rPr b="0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interest”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r “coupon”   yield= C/P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Yield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Int 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Red</a:t>
            </a:r>
            <a:r>
              <a:rPr b="1" lang="en-GB" sz="20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1" lang="en-GB" sz="2000" spc="-1" strike="noStrike" u="sng">
                <a:solidFill>
                  <a:srgbClr val="fafd00"/>
                </a:solidFill>
                <a:uFillTx/>
                <a:latin typeface="Arial"/>
              </a:rPr>
              <a:t>Price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</a:rPr>
              <a:t>In FT    </a:t>
            </a:r>
            <a:r>
              <a:rPr b="0" lang="en-GB" sz="2000" spc="-1" strike="noStrike">
                <a:solidFill>
                  <a:srgbClr val="fafd00"/>
                </a:solidFill>
                <a:latin typeface="Arial"/>
              </a:rPr>
              <a:t>“Treasury 10% ‘04”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8.97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.90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13.79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lso called “Exchequer” ,  “Consols”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"/>
              <p:cNvSpPr txBox="1"/>
              <p:nvPr/>
            </p:nvSpPr>
            <p:spPr>
              <a:xfrm>
                <a:off x="1706400" y="914400"/>
                <a:ext cx="7209000" cy="13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y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5" name=""/>
          <p:cNvSpPr/>
          <p:nvPr/>
        </p:nvSpPr>
        <p:spPr>
          <a:xfrm>
            <a:off x="838080" y="2286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If you know the price, what is the YTM on a Bo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94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94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78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0CF5F-6C39-42C4-A2F8-E9B03C5496E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319318-FBAD-4613-BAD4-5BECD4ECEF3A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"/>
          <p:cNvSpPr/>
          <p:nvPr/>
        </p:nvSpPr>
        <p:spPr>
          <a:xfrm>
            <a:off x="1752480" y="6019920"/>
            <a:ext cx="6782040" cy="0"/>
          </a:xfrm>
          <a:prstGeom prst="line">
            <a:avLst/>
          </a:prstGeom>
          <a:ln w="12600">
            <a:solidFill>
              <a:srgbClr val="ffff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35160" y="-2057400"/>
            <a:ext cx="103622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24680" y="6033960"/>
            <a:ext cx="20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914400" y="1143000"/>
            <a:ext cx="1295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2590920" y="33526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5410080" y="5410080"/>
            <a:ext cx="0" cy="6098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1752480" y="1905120"/>
            <a:ext cx="0" cy="4114800"/>
          </a:xfrm>
          <a:prstGeom prst="line">
            <a:avLst/>
          </a:prstGeom>
          <a:ln w="12600">
            <a:solidFill>
              <a:srgbClr val="ff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4038480" y="4876920"/>
            <a:ext cx="0" cy="106668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3367080" y="6186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4890960" y="6186600"/>
            <a:ext cx="158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1919160" y="6186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2452680" y="283356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5257800" y="4800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914040" y="152280"/>
            <a:ext cx="7543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ce and YTM are inversely related (“convex”)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994" name=""/>
          <p:cNvSpPr/>
          <p:nvPr/>
        </p:nvSpPr>
        <p:spPr>
          <a:xfrm>
            <a:off x="3886200" y="426708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1599840" y="541008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H="1">
            <a:off x="1599840" y="480060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1599840" y="3352680"/>
            <a:ext cx="152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85800" y="4419720"/>
            <a:ext cx="83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85800" y="3048120"/>
            <a:ext cx="838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1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62120" y="5105520"/>
            <a:ext cx="7617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9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1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02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3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04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3" name=""/>
          <p:cNvSpPr/>
          <p:nvPr/>
        </p:nvSpPr>
        <p:spPr>
          <a:xfrm>
            <a:off x="99072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91440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DAB64-A095-4457-835B-51913B0F163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374AB4-BEAF-4DE1-A497-AA1F91893B8D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990720" y="84240"/>
            <a:ext cx="7835760" cy="83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E - YIELD: Simplified Equ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036" name=""/>
          <p:cNvSpPr/>
          <p:nvPr/>
        </p:nvSpPr>
        <p:spPr>
          <a:xfrm>
            <a:off x="1066680" y="1066680"/>
            <a:ext cx="7396200" cy="49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e  Annuity  formula (you do not have to memorise this !) -  useful in Exce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800" spc="-1" strike="noStrike">
                <a:solidFill>
                  <a:srgbClr val="fafd00"/>
                </a:solidFill>
                <a:latin typeface="Arial"/>
              </a:rPr>
              <a:t>P  =   ANNUITY + 100 / (1+y)</a:t>
            </a:r>
            <a:r>
              <a:rPr b="0" lang="en-GB" sz="2800" spc="-1" strike="noStrike" baseline="30000">
                <a:solidFill>
                  <a:srgbClr val="fafd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re “ANNUITY” =   ( C / y )  [ 1 - 1 / (1+y) </a:t>
            </a:r>
            <a:r>
              <a:rPr b="0" lang="en-GB" sz="2400" spc="-1" strike="noStrike" baseline="30000">
                <a:solidFill>
                  <a:srgbClr val="ffffff"/>
                </a:solidFill>
                <a:latin typeface="Arial"/>
              </a:rPr>
              <a:t>n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af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afd00"/>
                </a:solidFill>
                <a:uFillTx/>
                <a:latin typeface="Arial"/>
              </a:rPr>
              <a:t>For “Perpetuity” / “Consol” / “Undated stocks</a:t>
            </a:r>
            <a:r>
              <a:rPr b="0" lang="en-GB" sz="2400" spc="-1" strike="noStrike">
                <a:solidFill>
                  <a:srgbClr val="fafd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n       P = C / 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7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038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9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040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01F-5887-43C9-BE96-700FFEA1E78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01E0F8-4B84-49FB-81B4-67CABEA6BD47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CDD4B3DE-4134-4F4D-B71C-3283C961AE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cing of Coupon Bond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using Spot Rate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07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7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07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7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79C985F-BD97-47B3-9CBC-21ABE7F59E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838080" y="152280"/>
            <a:ext cx="7305840" cy="61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Using Spot Rate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"/>
              <p:cNvSpPr txBox="1"/>
              <p:nvPr/>
            </p:nvSpPr>
            <p:spPr>
              <a:xfrm>
                <a:off x="1143000" y="5181480"/>
                <a:ext cx="68864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14" name=""/>
          <p:cNvSpPr/>
          <p:nvPr/>
        </p:nvSpPr>
        <p:spPr>
          <a:xfrm>
            <a:off x="914400" y="1066680"/>
            <a:ext cx="754380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bove we calculated the YTM, from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observed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arket price P.  But how do we calculate this ‘fair’ (no arbitrage) price P for the bond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correct method of pricing a bond is to discount using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pot yield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, r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is is because the coupons can be “stripped” and sold separately, which could lead to riskless arbitrage profits, unless is P is determined 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1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1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1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47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9E036A9-12EB-4FD9-A2F4-A1D152A080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914400" y="68040"/>
            <a:ext cx="7305840" cy="61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Using Spot Rate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153" name=""/>
          <p:cNvSpPr/>
          <p:nvPr/>
        </p:nvSpPr>
        <p:spPr>
          <a:xfrm>
            <a:off x="990720" y="1143000"/>
            <a:ext cx="7467480" cy="51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se interbank rates for 1-year and 2-year deposits (ie. Spot yields) 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= 5%                r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6%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ppose there is a 2-year, 10% coupon bond in the market (par = 100).  What is the “fair price of this bond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= $10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</a:t>
            </a:r>
            <a:r>
              <a:rPr b="0" lang="en-GB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+ M = $1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15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5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15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8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FD23F7BD-C06B-41F6-8E08-ECD3177AB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762120" y="0"/>
            <a:ext cx="736740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CING and STRIPS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914400" y="914400"/>
            <a:ext cx="774864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1st coupon sells for</a:t>
            </a: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3" name=""/>
              <p:cNvSpPr txBox="1"/>
              <p:nvPr/>
            </p:nvSpPr>
            <p:spPr>
              <a:xfrm>
                <a:off x="5181480" y="990720"/>
                <a:ext cx="27432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5</m:t>
                        </m:r>
                        <m:r>
                          <m:t xml:space="preserve">)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4" name=""/>
          <p:cNvSpPr/>
          <p:nvPr/>
        </p:nvSpPr>
        <p:spPr>
          <a:xfrm>
            <a:off x="914400" y="2181240"/>
            <a:ext cx="7772400" cy="11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2nd year cash sells f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95" name=""/>
              <p:cNvSpPr txBox="1"/>
              <p:nvPr/>
            </p:nvSpPr>
            <p:spPr>
              <a:xfrm>
                <a:off x="5118120" y="2286000"/>
                <a:ext cx="31878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6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9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6" name=""/>
          <p:cNvSpPr/>
          <p:nvPr/>
        </p:nvSpPr>
        <p:spPr>
          <a:xfrm>
            <a:off x="914400" y="3352680"/>
            <a:ext cx="7848720" cy="312444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ket pri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of the COUPON PAYING BO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( 2-yr bond) = 106, then you could buy it for 106 an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mediate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l off the coupons today, separately for 9.52+97.9 = 107.42.  This is a risk free arbitrage opportunity, giving a profit of 1.4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So the  2-yr coupon bond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must sell f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P = 107.42 ( = “correct”, “fair”, no-arbitrage pri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7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198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9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200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29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112760" y="1371600"/>
            <a:ext cx="69199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vestments:Spot and Derivative Markets, K.Cuthbertson and D.Nitzs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6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oney Mar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ffff"/>
                </a:solidFill>
                <a:uFillTx/>
                <a:latin typeface="Arial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Business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14400" y="11430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14400" y="525600"/>
            <a:ext cx="38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EAD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6" name=""/>
          <p:cNvSpPr/>
          <p:nvPr/>
        </p:nvSpPr>
        <p:spPr>
          <a:xfrm>
            <a:off x="914400" y="6477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97B42-3404-4FAD-8CE1-24033E09AAF5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6498B09B-2A2F-4342-BB42-239EC638C2AF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657864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PRICES AND YIELD: LOGICAL SEQUENCE</a:t>
            </a:r>
            <a:r>
              <a:rPr b="0" lang="en-US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1066320" y="1728360"/>
            <a:ext cx="752004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nowing all  the spot rates r, (from the yield curve) you can calculate the “correct ( or ‘fair’ or “no arbitrage”) price of the bond P.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Knowing P, the F.T. then calculates the YTM using our previous IRR formula for y.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233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34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5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36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65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12F9-3277-4FB0-B168-C9E65F6DAC8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07DF84-E3F1-4951-B72B-28BF1E177D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4F95391F-279B-41AC-9BCE-87A3B1203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rporate Bond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27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27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7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27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03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990720" y="1219320"/>
            <a:ext cx="7572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)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Floating Rate Notes, FR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ture Coupons payable vary with LIBOR and are therefore uncertai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2)Convertibl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converted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y the hold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if she wishes) for a known number of shares/equity at specific times in the futur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nown as “equity kickers” - useful way of raising finance for ‘new’ firms. Yield is lower than on ‘plain vanilla’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0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0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0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1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9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35839-9D53-488E-84A0-24DBCC1E212A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7F025-A682-428D-AC7D-B406490286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41996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)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Callabl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be redeemed (bought back) by the issuer at par value, after a certain date in future (e.g. after 5 years, on a 10 year bon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if interest rates (yields) fall in the future then P &gt; par value and the bond will be called and company may re-issue bonds at the new lower rat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llable bonds have higher yields (when issued) than straights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4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4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4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74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085C-BDB7-432C-9468-4E693E68AFAE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55E0B2-867D-4E5C-AFD6-9502C91019D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2004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4)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Foreign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ankee/Samurai/Bulldog/Matador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.g. Yankee bond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Sony issues USD denominated bond in N.York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via a placement and subject to US listing require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and it will probably be listed on NYSE to trade in secondary market, as well as an OTC secondary market between banks and securities house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37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37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8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38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0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title"/>
          </p:nvPr>
        </p:nvSpPr>
        <p:spPr>
          <a:xfrm>
            <a:off x="838080" y="-25560"/>
            <a:ext cx="7112160" cy="787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B5ACC-60A4-4247-B170-EB8A0612CB3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8D8EE-6556-4CDE-8B6B-7102D4C5B6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2004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5) Euro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sued in ‘3rd country’, usually by private placement (via bank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afd00"/>
                </a:solidFill>
                <a:uFillTx/>
                <a:latin typeface="Arial"/>
              </a:rPr>
              <a:t>e.g. Sony issues USD bonds in Lond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lax regulation,, bearer bonds, tax paid gros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much innovation: floaters, convertible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rrants attached (and detachable) for option to purchase equity, more bonds, commodities (copper, oil) in the future, at a known price fixed today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issued by corporations, governments and international orgs (W.Bank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 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4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46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title"/>
          </p:nvPr>
        </p:nvSpPr>
        <p:spPr>
          <a:xfrm>
            <a:off x="838080" y="-360"/>
            <a:ext cx="71121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FD530-019B-4536-8EAE-F576D20A81D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0D11D-0021-4961-BAAB-EA928E5824C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837720" y="15192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mple’ Pric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f (Plain Vanilla)Corporate Bon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990720" y="1066680"/>
            <a:ext cx="7596000" cy="563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ame as pricing Treasuries except (fixed) coupon payments are discounted using the (spot) yields on corporate bonds of a particular credit rating (eg. BBB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Yield on BBB-rated bon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   =  r  + credit/default spread for BBB(eg. 250 bp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credit spread reflects the fact that bonds are more likely to default in recessions than in booms (- this ‘market risk’ cannot be diversified away - see later lectures on CAPM and asset ‘betas’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51" name=""/>
              <p:cNvSpPr txBox="1"/>
              <p:nvPr/>
            </p:nvSpPr>
            <p:spPr>
              <a:xfrm>
                <a:off x="985680" y="3352680"/>
                <a:ext cx="7548840" cy="103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BBB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 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45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45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45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84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4FA3-EA2C-43D6-A871-A0B8C83ABD6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A06AB-50E9-4D91-846F-4906C7661C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837720" y="76320"/>
            <a:ext cx="73566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DEFAULT SPREADS ON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487" name=""/>
          <p:cNvSpPr/>
          <p:nvPr/>
        </p:nvSpPr>
        <p:spPr>
          <a:xfrm>
            <a:off x="1262160" y="3519360"/>
            <a:ext cx="657216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649520" y="2739960"/>
            <a:ext cx="177840" cy="7732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2387520" y="2511360"/>
            <a:ext cx="249480" cy="100188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3100320" y="2359080"/>
            <a:ext cx="250920" cy="115416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3868560" y="2263680"/>
            <a:ext cx="266760" cy="125424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4592520" y="2049480"/>
            <a:ext cx="354240" cy="14778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5580000" y="1739880"/>
            <a:ext cx="368280" cy="1749600"/>
          </a:xfrm>
          <a:prstGeom prst="rect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2209680" y="3733920"/>
            <a:ext cx="693432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AAA   AA      A      BBB    Junk Bonds 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                         (“Crap. Corp”?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6934320" y="2424240"/>
            <a:ext cx="205560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Increasing                 Ris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1295280" y="2362320"/>
            <a:ext cx="641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6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4533840" y="1504800"/>
            <a:ext cx="6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5472000" y="1228680"/>
            <a:ext cx="1054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12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2233440" y="2014560"/>
            <a:ext cx="609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91080" y="1809720"/>
            <a:ext cx="590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2890800" y="1938240"/>
            <a:ext cx="590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1066680" y="4572000"/>
            <a:ext cx="6991560" cy="21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e.g. In 1996 Russia made its first Eurobond issue since 1917,  of $1bn - at 345 bp over US Treasu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Book Antiqua"/>
              </a:rPr>
              <a:t>~ Junk Bonds (ie. below investment grade of BB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762120" y="3718080"/>
            <a:ext cx="129528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T-Bond.</a:t>
            </a:r>
            <a:r>
              <a:rPr b="0" lang="en-GB" sz="2000" spc="-1" strike="noStrike">
                <a:solidFill>
                  <a:srgbClr val="ffffff"/>
                </a:solidFill>
                <a:latin typeface="Book Antiqu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4" name=""/>
          <p:cNvGrpSpPr/>
          <p:nvPr/>
        </p:nvGrpSpPr>
        <p:grpSpPr>
          <a:xfrm>
            <a:off x="-76320" y="3240"/>
            <a:ext cx="838440" cy="6854760"/>
            <a:chOff x="-76320" y="3240"/>
            <a:chExt cx="838440" cy="6854760"/>
          </a:xfrm>
        </p:grpSpPr>
        <p:sp>
          <p:nvSpPr>
            <p:cNvPr id="1505" name=""/>
            <p:cNvSpPr/>
            <p:nvPr/>
          </p:nvSpPr>
          <p:spPr>
            <a:xfrm>
              <a:off x="-76320" y="3240"/>
              <a:ext cx="83844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06" name=""/>
            <p:cNvGrpSpPr/>
            <p:nvPr/>
          </p:nvGrpSpPr>
          <p:grpSpPr>
            <a:xfrm>
              <a:off x="-17280" y="166680"/>
              <a:ext cx="117360" cy="6550200"/>
              <a:chOff x="-17280" y="166680"/>
              <a:chExt cx="117360" cy="6550200"/>
            </a:xfrm>
          </p:grpSpPr>
          <p:sp>
            <p:nvSpPr>
              <p:cNvPr id="1507" name=""/>
              <p:cNvSpPr/>
              <p:nvPr/>
            </p:nvSpPr>
            <p:spPr>
              <a:xfrm>
                <a:off x="-172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-172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-172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-172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-172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-172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-172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-172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-172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-172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-172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-172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-172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-172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-172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-172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-172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-172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-172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-172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-172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-172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-172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-172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-172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-172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-172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-172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-172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36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3B53-2BA5-4268-88B7-2E13F6391C37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D87DA-AAB9-416F-85DD-4F35F1D54B49}" type="datetime1">
              <a:rPr lang="en-US"/>
              <a:t>07/28/26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/>
          </p:nvPr>
        </p:nvSpPr>
        <p:spPr>
          <a:xfrm>
            <a:off x="1066320" y="1294920"/>
            <a:ext cx="757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We could also replace th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romise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coupons with the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expected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upon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E(Coupon) = (1-p) C + p ( z x C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= prob of default (can be extracted from observed credit spreads or from mortality rates of sample of BBB rated corporate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g. For BBB prob. default after 1,   5,    and 10 years i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3%, 1.6% and 2.8%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53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4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4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4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71" name="PlaceHolder 2"/>
          <p:cNvSpPr>
            <a:spLocks noGrp="1"/>
          </p:cNvSpPr>
          <p:nvPr>
            <p:ph type="title"/>
          </p:nvPr>
        </p:nvSpPr>
        <p:spPr>
          <a:xfrm>
            <a:off x="762120" y="-360"/>
            <a:ext cx="76197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‘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Simple’ Pricing</a:t>
            </a: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 Rounded MT Bold"/>
              </a:rPr>
              <a:t>of (Plain Vanilla)Corporate Bonds</a:t>
            </a:r>
            <a:endParaRPr b="1" lang="en-US" sz="24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2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6DF4E-5AF2-4918-9F53-C591E6A17F0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6CB73E-28C8-4C70-964C-EBB78F40B90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ue of Debt and Equity of the Firm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1218960" y="1066680"/>
            <a:ext cx="746748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The value of marketable debt: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(debt)  =   N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x 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BBB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e can then calculate the equity value of the firm a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(equity) =  ‘Enterprise DCF  -  V(debt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57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57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57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8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D33A-B721-4D45-88AB-BB6D65CFA9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41A835-2372-44DB-BA73-740784193C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319040" y="1447920"/>
            <a:ext cx="736776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rument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d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o Plays in the Money Markets</a:t>
            </a: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9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1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" name=""/>
          <p:cNvSpPr/>
          <p:nvPr/>
        </p:nvSpPr>
        <p:spPr>
          <a:xfrm>
            <a:off x="99072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AE95C-EC6C-4E13-A783-0051FCF672E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9239A-84A9-4E3E-BC3E-9AFE9218ECE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"/>
          <p:cNvSpPr txBox="1"/>
          <p:nvPr/>
        </p:nvSpPr>
        <p:spPr>
          <a:xfrm>
            <a:off x="7238880" y="6629040"/>
            <a:ext cx="1903680" cy="22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AF0E8EA2-10D5-4DA5-90EA-9AEFB61297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"/>
          <p:cNvSpPr txBox="1"/>
          <p:nvPr/>
        </p:nvSpPr>
        <p:spPr>
          <a:xfrm>
            <a:off x="2971800" y="6629040"/>
            <a:ext cx="320040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Copyright K. Cuthbertson and D. Nitzsch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2" name=""/>
          <p:cNvSpPr txBox="1"/>
          <p:nvPr/>
        </p:nvSpPr>
        <p:spPr>
          <a:xfrm>
            <a:off x="0" y="75960"/>
            <a:ext cx="1905120" cy="15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914040" y="2438280"/>
            <a:ext cx="746748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161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1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1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1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46" name=""/>
          <p:cNvSpPr/>
          <p:nvPr/>
        </p:nvSpPr>
        <p:spPr>
          <a:xfrm>
            <a:off x="914400" y="3049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838080" y="101520"/>
            <a:ext cx="77472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1219320" y="1424160"/>
            <a:ext cx="7524720" cy="4628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ation measures the ‘riskiness’ of a bond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r more accurately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bond’s price response to a 1% change in the yiel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to maturity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rudely:  High duration (e.g. D =10) implies  ‘high risk’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If yield falls by 1% (in a week) then bond price will rise by 10% (over the week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ar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“duration”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larger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s the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price respons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‘up’ or ‘down’) after a change in yield. 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650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1651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2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1653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4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5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6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7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8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9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0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1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2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3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4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0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1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3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4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8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82EC-AFD0-4241-85DE-19CE5D68C3E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AEDDC1-8FC1-4190-9F91-F17CDEEF0106}" type="datetime1">
              <a:rPr lang="en-US"/>
              <a:t>07/28/26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/>
          </p:nvPr>
        </p:nvSpPr>
        <p:spPr>
          <a:xfrm>
            <a:off x="1294920" y="1295280"/>
            <a:ext cx="7448760" cy="478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uration D = 10 “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ummarises”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 relationship between the (absolute) change in the yield and th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ercentag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hange in the price of the bond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Speculation and 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expect yields to fall then switch into “high duration”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High durati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bonds (I.e. large D)  are bonds with :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ng maturiti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” or,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 “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ow” coupo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rates (payments)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685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686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87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688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17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 type="title"/>
          </p:nvPr>
        </p:nvSpPr>
        <p:spPr>
          <a:xfrm>
            <a:off x="838080" y="101520"/>
            <a:ext cx="774720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nds and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A3C9-2143-493C-BDED-65A52117D974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A0824-FC51-421F-8C2D-E53540E5E0B5}" type="datetime1">
              <a:rPr lang="en-US"/>
              <a:t>07/28/26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838080" y="150840"/>
            <a:ext cx="6220080" cy="61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RATION ( D = 5 say)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1" name=""/>
              <p:cNvSpPr txBox="1"/>
              <p:nvPr/>
            </p:nvSpPr>
            <p:spPr>
              <a:xfrm>
                <a:off x="2133720" y="5310360"/>
                <a:ext cx="3268440" cy="93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D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722" name=""/>
          <p:cNvSpPr/>
          <p:nvPr/>
        </p:nvSpPr>
        <p:spPr>
          <a:xfrm>
            <a:off x="833400" y="914400"/>
            <a:ext cx="83106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Measures (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MT Black"/>
              </a:rPr>
              <a:t>approximate)</a:t>
            </a: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 price response to change in yie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‘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 MT Black"/>
              </a:rPr>
              <a:t>Percentage change in price’</a:t>
            </a:r>
            <a:r>
              <a:rPr b="0" lang="en-GB" sz="2400" spc="-1" strike="noStrike">
                <a:solidFill>
                  <a:srgbClr val="ffffff"/>
                </a:solidFill>
                <a:latin typeface="Arial MT Black"/>
              </a:rPr>
              <a:t>    =  - D x (absolute change in yie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MT Black"/>
              </a:rPr>
              <a:t>e.g If D=5 then 1% fall in y from say 5% to 4% over the next day, will lead to a rise in the price of the bond by 5% (in a da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23" name=""/>
              <p:cNvSpPr txBox="1"/>
              <p:nvPr/>
            </p:nvSpPr>
            <p:spPr>
              <a:xfrm>
                <a:off x="1600200" y="3697200"/>
                <a:ext cx="511344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x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D</m:t>
                    </m:r>
                    <m:r>
                      <m:t xml:space="preserve"> 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724" name=""/>
          <p:cNvSpPr/>
          <p:nvPr/>
        </p:nvSpPr>
        <p:spPr>
          <a:xfrm>
            <a:off x="1523880" y="3124080"/>
            <a:ext cx="533412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 is given as a percentage e.g. 5%,  the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1447920" y="4648320"/>
            <a:ext cx="67053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rrect expression, here  y is a decimal  e.g. 0.05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2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72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2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72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5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5106-1427-4BBB-9838-459A5D53BBF5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7C63FF-A1BC-40EB-B4BF-690D2B015E17}" type="datetime1">
              <a:rPr lang="en-US"/>
              <a:t>07/28/26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"/>
          <p:cNvSpPr/>
          <p:nvPr/>
        </p:nvSpPr>
        <p:spPr>
          <a:xfrm>
            <a:off x="1295280" y="6019920"/>
            <a:ext cx="678204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677960" y="-2057400"/>
            <a:ext cx="10362240" cy="7772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255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1600200" y="3657600"/>
            <a:ext cx="3809880" cy="2362320"/>
          </a:xfrm>
          <a:prstGeom prst="line">
            <a:avLst/>
          </a:prstGeom>
          <a:ln w="507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 flipH="1">
            <a:off x="1294920" y="4876920"/>
            <a:ext cx="221004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024680" y="6033960"/>
            <a:ext cx="20480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Yiel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914400" y="1371600"/>
            <a:ext cx="990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Pr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 flipH="1">
            <a:off x="2099880" y="3352680"/>
            <a:ext cx="33480" cy="7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 flipH="1">
            <a:off x="2133720" y="2819520"/>
            <a:ext cx="1828800" cy="9144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3968640" y="1835280"/>
            <a:ext cx="425304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ual price rise Z-B, exceeds  that given by duration, Z-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5105520" y="3581280"/>
            <a:ext cx="3873240" cy="82404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ctual price fall is less than that given by du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5181480" y="548640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 flipH="1">
            <a:off x="3580920" y="4876920"/>
            <a:ext cx="16002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 flipH="1">
            <a:off x="5257440" y="4495680"/>
            <a:ext cx="2133720" cy="11430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 flipH="1">
            <a:off x="2133720" y="4038480"/>
            <a:ext cx="33120" cy="85248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1295280" y="1905120"/>
            <a:ext cx="0" cy="41148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3581280" y="4876920"/>
            <a:ext cx="0" cy="106668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3352680" y="601992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4876920" y="6019920"/>
            <a:ext cx="747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2133720" y="487692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1905120" y="6019920"/>
            <a:ext cx="442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 flipH="1">
            <a:off x="1371240" y="403848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838080" y="36576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838080" y="283356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5272200" y="548640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5119560" y="496728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837720" y="152280"/>
            <a:ext cx="71629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xity’ is ‘Good’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‘Negative Convexity’ is ‘bad’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786" name=""/>
          <p:cNvSpPr/>
          <p:nvPr/>
        </p:nvSpPr>
        <p:spPr>
          <a:xfrm>
            <a:off x="5181480" y="4952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"/>
          <p:cNvSpPr/>
          <p:nvPr/>
        </p:nvSpPr>
        <p:spPr>
          <a:xfrm>
            <a:off x="2362320" y="1295280"/>
            <a:ext cx="5486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‘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greater convexity’ = more curva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"/>
          <p:cNvSpPr/>
          <p:nvPr/>
        </p:nvSpPr>
        <p:spPr>
          <a:xfrm>
            <a:off x="3352680" y="4724280"/>
            <a:ext cx="457200" cy="304920"/>
          </a:xfrm>
          <a:prstGeom prst="star5">
            <a:avLst/>
          </a:prstGeom>
          <a:solidFill>
            <a:srgbClr val="dc008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79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79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1" name=""/>
          <p:cNvSpPr/>
          <p:nvPr/>
        </p:nvSpPr>
        <p:spPr>
          <a:xfrm>
            <a:off x="914400" y="10666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952880" y="5334120"/>
            <a:ext cx="457200" cy="30456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952880" y="5715000"/>
            <a:ext cx="457200" cy="30492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1981080" y="3276720"/>
            <a:ext cx="457200" cy="30456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1905120" y="3886200"/>
            <a:ext cx="457200" cy="304920"/>
          </a:xfrm>
          <a:prstGeom prst="star5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 flipH="1">
            <a:off x="1294920" y="3429000"/>
            <a:ext cx="762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762120" y="4540320"/>
            <a:ext cx="5191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9B31-05F3-4A77-AFF8-F72579F26F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85D3FF-0E46-4577-A101-A11BF0EDE492}" type="datetime1">
              <a:rPr lang="en-US"/>
              <a:t>07/28/26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837720" y="75960"/>
            <a:ext cx="6892920" cy="61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culate DURATION ( D)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1066320" y="2467080"/>
            <a:ext cx="769644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Messy, not intuitive ! - do in EXCEL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D  = [1.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  +  2.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)+...       ... + n 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n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+M)] / P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where  PV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 ) =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 Rounded MT Bold"/>
              </a:rPr>
              <a:t>i </a:t>
            </a:r>
            <a:r>
              <a:rPr b="0" lang="en-GB" sz="1800" spc="-1" strike="noStrike">
                <a:solidFill>
                  <a:srgbClr val="ffffff"/>
                </a:solidFill>
                <a:latin typeface="Arial Rounded MT Bold"/>
              </a:rPr>
              <a:t>/ (1+y)</a:t>
            </a:r>
            <a:r>
              <a:rPr b="0" lang="en-GB" sz="1800" spc="-1" strike="noStrike" baseline="30000">
                <a:solidFill>
                  <a:srgbClr val="ffffff"/>
                </a:solidFill>
                <a:latin typeface="Arial Rounded MT Bold"/>
              </a:rPr>
              <a:t> i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Limitations of Duration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t provides an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approxima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to the price chang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trictly it is only valid for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arallel shift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in Yield Curve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uration falls as the bond approaches maturity, so you need to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“rebalance”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your bond portfolio if you want to maintain a given duration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1831" name=""/>
          <p:cNvSpPr/>
          <p:nvPr/>
        </p:nvSpPr>
        <p:spPr>
          <a:xfrm>
            <a:off x="1905120" y="205740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2438280" y="16765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352680" y="1676520"/>
            <a:ext cx="38124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4343400" y="16765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5257800" y="1676520"/>
            <a:ext cx="380880" cy="3808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6324480" y="762120"/>
            <a:ext cx="381240" cy="12952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H="1">
            <a:off x="5638680" y="2057400"/>
            <a:ext cx="15264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791320" y="2057400"/>
            <a:ext cx="152280" cy="30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914400" y="91440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uration of 5-year bond = 4.2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5638680" y="1295280"/>
            <a:ext cx="152640" cy="7621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73" name=""/>
          <p:cNvSpPr/>
          <p:nvPr/>
        </p:nvSpPr>
        <p:spPr>
          <a:xfrm>
            <a:off x="914400" y="6094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0698-39B4-4E58-9A2A-F1F953CD065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86CF58-D33B-47B2-AF79-24C05144A169}" type="datetime1">
              <a:rPr lang="en-US"/>
              <a:t>07/28/26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837720" y="126720"/>
            <a:ext cx="57150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s of Portfolio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/>
          </p:nvPr>
        </p:nvSpPr>
        <p:spPr>
          <a:xfrm>
            <a:off x="1143000" y="1371240"/>
            <a:ext cx="782496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Portfolio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duration D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 Rounded MT Bold"/>
              </a:rPr>
              <a:t>p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D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p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= </a:t>
            </a:r>
            <a:r>
              <a:rPr b="0" lang="en-GB" sz="2000" spc="-1" strike="noStrike">
                <a:solidFill>
                  <a:srgbClr val="ffffff"/>
                </a:solidFill>
                <a:latin typeface="Symbol"/>
                <a:ea typeface="Symbol"/>
              </a:rPr>
              <a:t>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w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D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 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where   w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i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= proportions held in each bond-i</a:t>
            </a:r>
            <a:r>
              <a:rPr b="0" lang="en-GB" sz="2000" spc="-1" strike="noStrike" baseline="-25000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1)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speculation:  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If you expect interest rates (yields) to fall tomorrow then sell your “low duration” bonds a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 Rounded MT Bold"/>
              </a:rPr>
              <a:t>use the funds</a:t>
            </a:r>
            <a:r>
              <a:rPr b="0" lang="en-GB" sz="2000" spc="-1" strike="noStrike">
                <a:solidFill>
                  <a:srgbClr val="ffffff"/>
                </a:solidFill>
                <a:latin typeface="Arial Rounded MT Bold"/>
              </a:rPr>
              <a:t> to move into “high duration” bonds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.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Hence you increase the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overall duration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of your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portfolio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of bonds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87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87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7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88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09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2FA-870A-48C1-A354-DF6F46CB238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92B648E-EA2A-44D5-A267-7AFF685EE3E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/>
          </p:nvPr>
        </p:nvSpPr>
        <p:spPr>
          <a:xfrm>
            <a:off x="1066320" y="1066320"/>
            <a:ext cx="80773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2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)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Hedging (“Immunisation”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Pension fund has payment of $10m in 5 years time (with PV of 9m). 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o be certain of meeting this $10m payment, </a:t>
            </a:r>
            <a:r>
              <a:rPr b="0" lang="en-GB" sz="2000" spc="-1" strike="noStrike" u="sng">
                <a:solidFill>
                  <a:srgbClr val="ffff00"/>
                </a:solidFill>
                <a:uFillTx/>
                <a:latin typeface="Arial Rounded MT Bold"/>
              </a:rPr>
              <a:t>even if interest rates rise or fall over the next five years,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the pension fund should: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Buy $9m bonds in such  combinations that (portfolio) duration D</a:t>
            </a:r>
            <a:r>
              <a:rPr b="0" lang="en-GB" sz="2000" spc="-1" strike="noStrike" baseline="-25000">
                <a:solidFill>
                  <a:srgbClr val="ffff00"/>
                </a:solidFill>
                <a:latin typeface="Arial Rounded MT Bold"/>
              </a:rPr>
              <a:t>p</a:t>
            </a: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 = 5.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his is a statement not an “explanation” !</a:t>
            </a:r>
            <a:r>
              <a:rPr b="0" lang="en-GB" sz="28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 Rounded MT Bold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00"/>
                </a:solidFill>
                <a:latin typeface="Arial Rounded MT Bold"/>
              </a:rPr>
              <a:t>This allows the pension fund to earn coupon payments while hedging its future pension payment at t+5 and hence being able to meet this payout of  $10m at t+5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1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1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1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1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44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 type="title"/>
          </p:nvPr>
        </p:nvSpPr>
        <p:spPr>
          <a:xfrm>
            <a:off x="837720" y="126720"/>
            <a:ext cx="571500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Uses of Portfolio Duration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5C68-DA09-4999-B8E0-04E4CCA08A7F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76325C-255F-4AC4-9475-A67E1341ABD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1092240" y="2565000"/>
            <a:ext cx="8051760" cy="787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72680" cy="2109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LECTURE ENDS HERE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SELF STUDY SLIDES FOLLOW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49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50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1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52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81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261B-0CB0-43A8-B888-97F53366A06D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615C85-7353-47E8-B36D-DB5121337BC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/>
          </p:nvPr>
        </p:nvSpPr>
        <p:spPr>
          <a:xfrm>
            <a:off x="1242720" y="2361960"/>
            <a:ext cx="706284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 Rounded MT Bold"/>
              </a:rPr>
              <a:t>INSTITUTIONAL DETAILS</a:t>
            </a: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198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198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8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198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16" name=""/>
          <p:cNvSpPr/>
          <p:nvPr/>
        </p:nvSpPr>
        <p:spPr>
          <a:xfrm>
            <a:off x="914400" y="914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BF5FC-771D-4C38-982E-2CA627FD93D7}" type="slidenum">
              <a:t>4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0A302-3BDB-4A31-8A6C-A893E040FF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39600" y="152280"/>
            <a:ext cx="7365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Rounded MT Bold"/>
              </a:rPr>
              <a:t>Money Market Instrument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990720" y="837720"/>
            <a:ext cx="7291440" cy="5667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o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Short -term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Borrowing and Lending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Discount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- Bill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e.g. Buy T-bill = lend to the government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ommercial Bill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~ lend to companies (for financing inventories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Bankers’ Acceptance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bank lends to company, based on its future sales receipt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Yield Instrumen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 deposits, interbank borrowing (LIBOR / LIBI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ertificates of Deposit (CDs), Euro-currencies.</a:t>
            </a:r>
            <a:r>
              <a:rPr b="0" lang="en-GB" sz="2400" spc="-1" strike="noStrike">
                <a:solidFill>
                  <a:srgbClr val="ffffff"/>
                </a:solidFill>
                <a:latin typeface="Arial Rounded MT Bold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066680" y="609480"/>
            <a:ext cx="76964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14400" y="66294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801-4C87-4FD4-8CE0-66EF275A460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63C371-B6E5-4B32-8098-DE0DD64066F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8" name=""/>
          <p:cNvGraphicFramePr/>
          <p:nvPr/>
        </p:nvGraphicFramePr>
        <p:xfrm>
          <a:off x="1143000" y="609480"/>
          <a:ext cx="7556400" cy="5703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609480"/>
                    <a:ext cx="7556400" cy="57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2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2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2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2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52" name=""/>
          <p:cNvSpPr/>
          <p:nvPr/>
        </p:nvSpPr>
        <p:spPr>
          <a:xfrm>
            <a:off x="1219320" y="1752480"/>
            <a:ext cx="7010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C95E-DC31-4F67-A51B-7B2CE63570AF}" type="slidenum">
              <a:t>5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62C73-257A-4E38-8196-76481DAA1F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/>
          </p:nvPr>
        </p:nvSpPr>
        <p:spPr>
          <a:xfrm>
            <a:off x="1219320" y="1371240"/>
            <a:ext cx="7748640" cy="424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 quotes are good for up to £10m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preads on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pri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quotes are about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/32% (= 0.0312 of 1%) for shorts (&lt; 5 yrs maturity)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p to  1/8% (=0.125 of 1%)for longer maturitie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ices are now quoted in decimals (eg.£102.17)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lts can now be used as collateral in repos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-298440">
              <a:lnSpc>
                <a:spcPct val="100000"/>
              </a:lnSpc>
              <a:spcBef>
                <a:spcPts val="499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New issues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inly via auction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29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 type="title"/>
          </p:nvPr>
        </p:nvSpPr>
        <p:spPr>
          <a:xfrm>
            <a:off x="838080" y="0"/>
            <a:ext cx="792504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K Gilts :Price Quotes and “Liquidity”  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05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5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5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5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8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82D3-5CEB-4F7C-AEB3-399EDA3F6D9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D680F4-1D55-43F8-A142-7FB58E34C2C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0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8001000" cy="620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AULT RISK ON CORPORATE BONDS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091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59312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Reflected in quoted yields on bond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e.g. lower credit rating implies higher yield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 corporate bonds rated by agencies (Moody’s, Standard and Poor’s) according to financial strength of company (over the complete economic cycle)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vereign debt is also rated (eg. Mexico, Russia) and so are Municipal bonds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09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09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09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4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7680-3808-4F92-81C0-DE14E9B4321F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4B47A4-F986-43B7-BBE1-5122FBB89C84}" type="datetime1">
              <a:rPr lang="en-US"/>
              <a:t>07/28/26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990360" y="152280"/>
            <a:ext cx="782316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Price and Dirty Price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1294920" y="1500120"/>
            <a:ext cx="7448760" cy="3943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ean price” (as in the FT/WSJ) excludes accrued interest AI or rebate interest RI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 F.T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“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d”= ‘ex-dividend,  implies purchaser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will no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receive next coupon payment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 = clean price = f ( all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futu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C’s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ie clean price ‘includes’ all  future coupons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28" name=""/>
          <p:cNvSpPr/>
          <p:nvPr/>
        </p:nvSpPr>
        <p:spPr>
          <a:xfrm>
            <a:off x="1600200" y="2819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2438280" y="28195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13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3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13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62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4FD3-7331-4180-AD7E-C35D907937F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B106E5-0891-4A1F-B3EB-3711B710CAF1}" type="datetime1">
              <a:rPr lang="en-US"/>
              <a:t>07/28/26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837720" y="101520"/>
            <a:ext cx="7899480" cy="71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ean Price and Dirty Price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1142640" y="2261880"/>
            <a:ext cx="75582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Cum Div: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lies that at B the purchaser will receive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the sell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ust be compensated for the loss of AI over the period A-B , hence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Dirty (invoice) price = P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clean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 + AI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here   AI = (C</a:t>
            </a:r>
            <a:r>
              <a:rPr b="0" lang="en-GB" sz="18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/2)x( no. of days A-B /182)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“</a:t>
            </a:r>
            <a:r>
              <a:rPr b="0" lang="en-GB" sz="1800" spc="-1" strike="noStrike" u="sng">
                <a:solidFill>
                  <a:srgbClr val="ffff00"/>
                </a:solidFill>
                <a:uFillTx/>
                <a:latin typeface="Arial"/>
              </a:rPr>
              <a:t>xd”: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urchaser will not receive next coupon payment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Hence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buye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must be compensated for this, since clean price P=f(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, C</a:t>
            </a:r>
            <a:r>
              <a:rPr b="0" lang="en-GB" sz="1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,..) “includes” the next coupon payment.  Hence: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Dirty(invoice) Price = P</a:t>
            </a:r>
            <a:r>
              <a:rPr b="0" i="1" lang="en-GB" sz="1800" spc="-1" strike="noStrike" baseline="-25000">
                <a:solidFill>
                  <a:srgbClr val="ffff00"/>
                </a:solidFill>
                <a:latin typeface="Arial"/>
              </a:rPr>
              <a:t>clean</a:t>
            </a:r>
            <a:r>
              <a:rPr b="0" i="1" lang="en-GB" sz="1800" spc="-1" strike="noStrike" baseline="30000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ff00"/>
                </a:solidFill>
                <a:latin typeface="Arial"/>
              </a:rPr>
              <a:t>- Rebate Interest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where RI = (C/2) x (no. of days B-Z/182)</a:t>
            </a:r>
            <a:endParaRPr b="1" lang="en-US" sz="1800" spc="-1" strike="noStrike">
              <a:solidFill>
                <a:srgbClr val="ffff00"/>
              </a:solidFill>
              <a:latin typeface="Arial Rounded MT Bold"/>
            </a:endParaRPr>
          </a:p>
        </p:txBody>
      </p:sp>
      <p:sp>
        <p:nvSpPr>
          <p:cNvPr id="2166" name=""/>
          <p:cNvSpPr/>
          <p:nvPr/>
        </p:nvSpPr>
        <p:spPr>
          <a:xfrm>
            <a:off x="1600200" y="1447920"/>
            <a:ext cx="6248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7" name=""/>
          <p:cNvSpPr/>
          <p:nvPr/>
        </p:nvSpPr>
        <p:spPr>
          <a:xfrm>
            <a:off x="160020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8" name=""/>
          <p:cNvSpPr/>
          <p:nvPr/>
        </p:nvSpPr>
        <p:spPr>
          <a:xfrm>
            <a:off x="243828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9" name=""/>
          <p:cNvSpPr/>
          <p:nvPr/>
        </p:nvSpPr>
        <p:spPr>
          <a:xfrm>
            <a:off x="472428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0" name=""/>
          <p:cNvSpPr/>
          <p:nvPr/>
        </p:nvSpPr>
        <p:spPr>
          <a:xfrm>
            <a:off x="7848720" y="1447920"/>
            <a:ext cx="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7848720" y="1447920"/>
            <a:ext cx="685800" cy="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2" name=""/>
          <p:cNvSpPr/>
          <p:nvPr/>
        </p:nvSpPr>
        <p:spPr>
          <a:xfrm>
            <a:off x="4572000" y="175248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3" name=""/>
          <p:cNvSpPr/>
          <p:nvPr/>
        </p:nvSpPr>
        <p:spPr>
          <a:xfrm>
            <a:off x="7620120" y="1752480"/>
            <a:ext cx="990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4" name=""/>
          <p:cNvSpPr/>
          <p:nvPr/>
        </p:nvSpPr>
        <p:spPr>
          <a:xfrm>
            <a:off x="1295280" y="1676520"/>
            <a:ext cx="99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400" spc="-1" strike="noStrike" baseline="-25000">
                <a:solidFill>
                  <a:srgbClr val="ffff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5" name=""/>
          <p:cNvSpPr/>
          <p:nvPr/>
        </p:nvSpPr>
        <p:spPr>
          <a:xfrm>
            <a:off x="2209680" y="1676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6" name=""/>
          <p:cNvSpPr/>
          <p:nvPr/>
        </p:nvSpPr>
        <p:spPr>
          <a:xfrm>
            <a:off x="1447920" y="9907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7" name=""/>
          <p:cNvSpPr/>
          <p:nvPr/>
        </p:nvSpPr>
        <p:spPr>
          <a:xfrm>
            <a:off x="22096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8" name=""/>
          <p:cNvSpPr/>
          <p:nvPr/>
        </p:nvSpPr>
        <p:spPr>
          <a:xfrm>
            <a:off x="4495680" y="990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9" name=""/>
          <p:cNvSpPr/>
          <p:nvPr/>
        </p:nvSpPr>
        <p:spPr>
          <a:xfrm>
            <a:off x="1600200" y="9907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0" name=""/>
          <p:cNvSpPr/>
          <p:nvPr/>
        </p:nvSpPr>
        <p:spPr>
          <a:xfrm>
            <a:off x="3657600" y="990720"/>
            <a:ext cx="9907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1" name=""/>
          <p:cNvSpPr/>
          <p:nvPr/>
        </p:nvSpPr>
        <p:spPr>
          <a:xfrm>
            <a:off x="2666880" y="7621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18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18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18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18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14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0DD5-2DD9-4C25-9901-DE8CC5C28DB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28393-9201-4B1B-95AA-D6D0BB3202D7}" type="datetime1">
              <a:rPr lang="en-US"/>
              <a:t>07/28/26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16" name=""/>
          <p:cNvGraphicFramePr/>
          <p:nvPr/>
        </p:nvGraphicFramePr>
        <p:xfrm>
          <a:off x="838080" y="1828800"/>
          <a:ext cx="7367760" cy="457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828800"/>
                    <a:ext cx="7367760" cy="4572000"/>
                  </a:xfrm>
                  <a:prstGeom prst="rect">
                    <a:avLst/>
                  </a:prstGeom>
                  <a:ln w="25560">
                    <a:solidFill>
                      <a:srgbClr val="ff0066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18" name=""/>
          <p:cNvSpPr/>
          <p:nvPr/>
        </p:nvSpPr>
        <p:spPr>
          <a:xfrm>
            <a:off x="914400" y="169920"/>
            <a:ext cx="78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f-Assessment:Price -YTM Relation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9" name=""/>
          <p:cNvSpPr/>
          <p:nvPr/>
        </p:nvSpPr>
        <p:spPr>
          <a:xfrm>
            <a:off x="914400" y="961920"/>
            <a:ext cx="8229600" cy="7038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iven the coupon and market price, can you explain the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qualitative “pattern’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of the YTM’s in the final column?   (Note: Par =  M = 100 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20" name=""/>
          <p:cNvGrpSpPr/>
          <p:nvPr/>
        </p:nvGrpSpPr>
        <p:grpSpPr>
          <a:xfrm>
            <a:off x="0" y="3240"/>
            <a:ext cx="838080" cy="6854760"/>
            <a:chOff x="0" y="3240"/>
            <a:chExt cx="838080" cy="6854760"/>
          </a:xfrm>
        </p:grpSpPr>
        <p:sp>
          <p:nvSpPr>
            <p:cNvPr id="2221" name=""/>
            <p:cNvSpPr/>
            <p:nvPr/>
          </p:nvSpPr>
          <p:spPr>
            <a:xfrm>
              <a:off x="0" y="324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58680" y="166680"/>
              <a:ext cx="117360" cy="6550200"/>
              <a:chOff x="58680" y="166680"/>
              <a:chExt cx="117360" cy="6550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58680" y="17575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58680" y="1987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58680" y="22147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58680" y="24447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58680" y="267516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58680" y="29019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58680" y="3132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58680" y="336240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58680" y="35895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58680" y="3819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58680" y="40496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58680" y="42753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58680" y="4505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58680" y="473256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58680" y="4962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58680" y="51926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58680" y="5419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58680" y="56498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58680" y="5880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58680" y="61070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58680" y="63374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58680" y="65660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58680" y="16668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58680" y="39384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58680" y="62388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58680" y="8524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58680" y="10796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58680" y="130968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58680" y="154008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252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D8285-1EB5-4D7E-9606-53557E6B8ADA}" type="slidenum">
              <a:t>5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555374-2EA1-4285-B084-CE2DD19DC0DE}" type="datetime1">
              <a:rPr lang="en-US"/>
              <a:t>07/28/26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7504200" cy="89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olding Period Return (Yield)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5" name=""/>
              <p:cNvSpPr txBox="1"/>
              <p:nvPr/>
            </p:nvSpPr>
            <p:spPr>
              <a:xfrm>
                <a:off x="2038320" y="3124080"/>
                <a:ext cx="573408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expected $ capital gain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coupon payments 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terest on interest</m:t>
                            </m:r>
                            <m:r>
                              <m:t xml:space="preserve">)</m:t>
                            </m:r>
                          </m:num>
                          <m:den/>
                        </m:f>
                      </m:e>
                    </m:eqArr>
                    <m:eqArr>
                      <m:e>
                        <m:f>
                          <m:num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Initial purchase price of the bond</m:t>
                            </m:r>
                            <m:r>
                              <m:t xml:space="preserve">)</m:t>
                            </m:r>
                          </m:num>
                          <m:den/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6" name=""/>
          <p:cNvSpPr/>
          <p:nvPr/>
        </p:nvSpPr>
        <p:spPr>
          <a:xfrm>
            <a:off x="1219320" y="5715000"/>
            <a:ext cx="472428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7" name=""/>
          <p:cNvSpPr/>
          <p:nvPr/>
        </p:nvSpPr>
        <p:spPr>
          <a:xfrm>
            <a:off x="1066680" y="57150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8" name=""/>
          <p:cNvSpPr/>
          <p:nvPr/>
        </p:nvSpPr>
        <p:spPr>
          <a:xfrm>
            <a:off x="5867280" y="57150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9" name=""/>
          <p:cNvSpPr/>
          <p:nvPr/>
        </p:nvSpPr>
        <p:spPr>
          <a:xfrm flipV="1">
            <a:off x="19051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0" name=""/>
          <p:cNvSpPr/>
          <p:nvPr/>
        </p:nvSpPr>
        <p:spPr>
          <a:xfrm flipV="1">
            <a:off x="32767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1" name=""/>
          <p:cNvSpPr/>
          <p:nvPr/>
        </p:nvSpPr>
        <p:spPr>
          <a:xfrm flipV="1">
            <a:off x="464832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2" name=""/>
          <p:cNvSpPr/>
          <p:nvPr/>
        </p:nvSpPr>
        <p:spPr>
          <a:xfrm flipV="1">
            <a:off x="5943600" y="5105160"/>
            <a:ext cx="0" cy="60948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3" name=""/>
          <p:cNvSpPr/>
          <p:nvPr/>
        </p:nvSpPr>
        <p:spPr>
          <a:xfrm>
            <a:off x="6019920" y="5715000"/>
            <a:ext cx="2666880" cy="0"/>
          </a:xfrm>
          <a:prstGeom prst="line">
            <a:avLst/>
          </a:prstGeom>
          <a:ln w="1260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4" name=""/>
          <p:cNvSpPr/>
          <p:nvPr/>
        </p:nvSpPr>
        <p:spPr>
          <a:xfrm>
            <a:off x="16002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5" name=""/>
          <p:cNvSpPr/>
          <p:nvPr/>
        </p:nvSpPr>
        <p:spPr>
          <a:xfrm>
            <a:off x="3048120" y="45720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"/>
          <p:cNvSpPr/>
          <p:nvPr/>
        </p:nvSpPr>
        <p:spPr>
          <a:xfrm>
            <a:off x="43434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7" name=""/>
          <p:cNvSpPr/>
          <p:nvPr/>
        </p:nvSpPr>
        <p:spPr>
          <a:xfrm>
            <a:off x="5715000" y="45720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8" name=""/>
          <p:cNvSpPr/>
          <p:nvPr/>
        </p:nvSpPr>
        <p:spPr>
          <a:xfrm>
            <a:off x="1981080" y="457200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9" name=""/>
          <p:cNvSpPr/>
          <p:nvPr/>
        </p:nvSpPr>
        <p:spPr>
          <a:xfrm>
            <a:off x="3505320" y="4952880"/>
            <a:ext cx="25146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0" name=""/>
          <p:cNvSpPr/>
          <p:nvPr/>
        </p:nvSpPr>
        <p:spPr>
          <a:xfrm>
            <a:off x="4800600" y="4800600"/>
            <a:ext cx="91440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1" name=""/>
          <p:cNvSpPr/>
          <p:nvPr/>
        </p:nvSpPr>
        <p:spPr>
          <a:xfrm>
            <a:off x="6248520" y="45720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t on inte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2" name=""/>
          <p:cNvSpPr/>
          <p:nvPr/>
        </p:nvSpPr>
        <p:spPr>
          <a:xfrm>
            <a:off x="1295280" y="1279440"/>
            <a:ext cx="769644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e that if you intend to sell the bond </a:t>
            </a:r>
            <a:r>
              <a:rPr b="0" lang="en-GB" sz="2000" spc="-1" strike="noStrike" u="sng">
                <a:solidFill>
                  <a:srgbClr val="ffffff"/>
                </a:solidFill>
                <a:uFillTx/>
                <a:latin typeface="Arial"/>
              </a:rPr>
              <a:t>before maturity (eg after 3 years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n the “expected return” on the bond is know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“holding period yield” HPY wher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3" name=""/>
          <p:cNvSpPr/>
          <p:nvPr/>
        </p:nvSpPr>
        <p:spPr>
          <a:xfrm>
            <a:off x="762120" y="34290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PY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4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275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76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277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06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 flipH="1" flipV="1">
            <a:off x="6019560" y="45716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 flipH="1">
            <a:off x="6095520" y="4876920"/>
            <a:ext cx="228600" cy="759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0" name=""/>
          <p:cNvSpPr/>
          <p:nvPr/>
        </p:nvSpPr>
        <p:spPr>
          <a:xfrm flipV="1">
            <a:off x="1219320" y="5562360"/>
            <a:ext cx="0" cy="2286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B324-5BE2-4A6F-81F6-3A03F9932AD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676D13-A6A0-49F5-BE1C-21E78DECF7B1}" type="datetime1">
              <a:rPr lang="en-US"/>
              <a:t>07/28/2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1066320" y="2743200"/>
            <a:ext cx="76964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LIDES END HERE</a:t>
            </a:r>
            <a:br>
              <a:rPr sz="4000"/>
            </a:br>
            <a:endParaRPr b="1" lang="en-US" sz="40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2312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313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4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315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0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1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2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344" name=""/>
          <p:cNvSpPr/>
          <p:nvPr/>
        </p:nvSpPr>
        <p:spPr>
          <a:xfrm>
            <a:off x="914400" y="3808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AB9B-8FF6-466F-917D-293828DC2708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CF8D32-BFDD-4A63-A8EC-BD7158FD4015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213680" cy="96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Rounded MT Bold"/>
              </a:rPr>
              <a:t>Who Plays in the Money Markets ?</a:t>
            </a:r>
            <a:endParaRPr b="1" lang="en-US" sz="32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90360" y="1295280"/>
            <a:ext cx="726732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Interbank loan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ank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charges 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LIBOR to  another bank (or quality corporate customer) who borrows from  it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Banks </a:t>
            </a:r>
            <a:r>
              <a:rPr b="0" lang="en-GB" sz="2400" spc="-1" strike="noStrike" u="sng">
                <a:solidFill>
                  <a:srgbClr val="ffff00"/>
                </a:solidFill>
                <a:uFillTx/>
                <a:latin typeface="Arial"/>
              </a:rPr>
              <a:t>pays LIBID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 for deposits placed with it.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IBOR  &gt;  LIBI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LIBOR is  cost of funds to the bank for “on-lending”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Als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IBOR, NYBOR, SIBOR, EURIBOR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Key reference rate (eg. for Swaps, FRN’s,  FRA’s)</a:t>
            </a:r>
            <a:r>
              <a:rPr b="0" lang="en-GB" sz="2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271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2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273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2" name=""/>
          <p:cNvSpPr/>
          <p:nvPr/>
        </p:nvSpPr>
        <p:spPr>
          <a:xfrm>
            <a:off x="914400" y="838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5C55-2648-443C-8240-26EA82DC38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C7805E-199C-455E-A044-BA2668CBE1B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-228600"/>
            <a:ext cx="7747200" cy="11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Rounded MT Bold"/>
              </a:rPr>
              <a:t>Who plays in the Money Markets ?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990720" y="990360"/>
            <a:ext cx="729144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FOREX Speculator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Will place “hot money” in money market ass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Corporate Treasurer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Raise large amounts of “cash” in the commercial paper market in U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Surplus funds invested in money market asset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ff00"/>
                </a:solidFill>
                <a:uFillTx/>
                <a:latin typeface="Arial Rounded MT Bold"/>
              </a:rPr>
              <a:t>Central Bank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Rounded MT Bold"/>
              </a:rPr>
              <a:t>To implement monetary policy via “open market operations” using repos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306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07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09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38" name=""/>
          <p:cNvSpPr/>
          <p:nvPr/>
        </p:nvSpPr>
        <p:spPr>
          <a:xfrm>
            <a:off x="914400" y="76212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3C39-6241-4805-A923-C2CA38284CA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0F07F1-C871-4A6F-BA47-1DF9D6F83C3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914040" y="2463840"/>
            <a:ext cx="7746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Yield or ‘Add on’ Instruments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and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iscount Instruments</a:t>
            </a:r>
            <a:endParaRPr b="1" lang="en-US" sz="3600" spc="-1" strike="noStrike">
              <a:solidFill>
                <a:srgbClr val="ffffff"/>
              </a:solidFill>
              <a:latin typeface="Arial Rounded MT Bold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42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44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73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4076-1B89-479D-934A-4D6B888BCDD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7159A-6D5F-4129-B76B-06397222943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25560"/>
            <a:ext cx="7746840" cy="660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ventions in the Money Market</a:t>
            </a:r>
            <a:endParaRPr b="1" lang="en-US" sz="2800" spc="-1" strike="noStrike">
              <a:solidFill>
                <a:srgbClr val="ffffff"/>
              </a:solidFill>
              <a:latin typeface="Arial Rounded MT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914040" y="1066320"/>
            <a:ext cx="744372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ssets ar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oted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n a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discoun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or </a:t>
            </a: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yield basis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imple annual rates are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quoted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day count convention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for “grossing up” to annual rates differs between markets and types of asset.(UK :  “actual / 365 “ ,  US  “actual/ 360”  )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dfca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is ultimately important is “what you paid”, “what you got at the end” and the intervening time period. Then you can work out your “Return”  in a manner that is “reasonable”  (eg. Using simple or compound “interest” ). </a:t>
            </a:r>
            <a:r>
              <a:rPr b="1" lang="en-GB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00"/>
              </a:solidFill>
              <a:latin typeface="Arial Rounded MT Bold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0" y="0"/>
            <a:ext cx="838080" cy="6854760"/>
            <a:chOff x="0" y="0"/>
            <a:chExt cx="838080" cy="6854760"/>
          </a:xfrm>
        </p:grpSpPr>
        <p:sp>
          <p:nvSpPr>
            <p:cNvPr id="378" name=""/>
            <p:cNvSpPr/>
            <p:nvPr/>
          </p:nvSpPr>
          <p:spPr>
            <a:xfrm>
              <a:off x="0" y="0"/>
              <a:ext cx="83808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58680" y="163440"/>
              <a:ext cx="117360" cy="6550200"/>
              <a:chOff x="58680" y="163440"/>
              <a:chExt cx="117360" cy="6550200"/>
            </a:xfrm>
          </p:grpSpPr>
          <p:sp>
            <p:nvSpPr>
              <p:cNvPr id="380" name=""/>
              <p:cNvSpPr/>
              <p:nvPr/>
            </p:nvSpPr>
            <p:spPr>
              <a:xfrm>
                <a:off x="58680" y="17542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58680" y="19843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8680" y="221148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58680" y="244152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58680" y="2671920"/>
                <a:ext cx="117360" cy="1504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58680" y="28987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58680" y="31291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58680" y="3359160"/>
                <a:ext cx="117360" cy="1490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58680" y="358632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58680" y="381636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58680" y="404640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58680" y="42721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58680" y="45021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58680" y="4729320"/>
                <a:ext cx="117360" cy="1537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8680" y="49593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8680" y="51894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58680" y="541656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8680" y="56466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58680" y="58770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58680" y="61038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58680" y="63342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58680" y="656280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58680" y="163440"/>
                <a:ext cx="117360" cy="14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58680" y="390600"/>
                <a:ext cx="117360" cy="152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58680" y="620640"/>
                <a:ext cx="117360" cy="152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58680" y="8492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58680" y="107640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58680" y="1306440"/>
                <a:ext cx="117360" cy="1540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58680" y="1536840"/>
                <a:ext cx="117360" cy="150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9" name=""/>
          <p:cNvSpPr/>
          <p:nvPr/>
        </p:nvSpPr>
        <p:spPr>
          <a:xfrm>
            <a:off x="914400" y="68580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553080"/>
            <a:ext cx="7696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pyright K. Cuthbertson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F95B9-CF09-45B5-BAF2-987DB855BF1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68ACFB-6C5E-4BA0-8309-6D28F128116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11-29T09:23:12Z</dcterms:created>
  <dc:creator>Dept. of Economics</dc:creator>
  <dc:description/>
  <dc:language>en-US</dc:language>
  <cp:lastModifiedBy>Keith Cuthbertson</cp:lastModifiedBy>
  <cp:lastPrinted>2001-09-26T17:49:33Z</cp:lastPrinted>
  <dcterms:modified xsi:type="dcterms:W3CDTF">2001-10-03T12:38:03Z</dcterms:modified>
  <cp:revision>114</cp:revision>
  <dc:subject/>
  <dc:title>ISSUES IN FINANCE</dc:title>
</cp:coreProperties>
</file>